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9.jpeg" ContentType="image/jpeg"/>
  <Override PartName="/ppt/media/image8.jpeg" ContentType="image/jpeg"/>
  <Override PartName="/ppt/media/image22.jpeg" ContentType="image/jpeg"/>
  <Override PartName="/ppt/media/image15.wmf" ContentType="image/x-wmf"/>
  <Override PartName="/ppt/media/image1.jpeg" ContentType="image/jpeg"/>
  <Override PartName="/ppt/media/image7.png" ContentType="image/png"/>
  <Override PartName="/ppt/media/image25.jpeg" ContentType="image/jpeg"/>
  <Override PartName="/ppt/media/image4.jpeg" ContentType="image/jpeg"/>
  <Override PartName="/ppt/media/image10.wmf" ContentType="image/x-wmf"/>
  <Override PartName="/ppt/media/image13.wmf" ContentType="image/x-wmf"/>
  <Override PartName="/ppt/media/image27.jpeg" ContentType="image/jpeg"/>
  <Override PartName="/ppt/media/image12.wmf" ContentType="image/x-wmf"/>
  <Override PartName="/ppt/media/image30.jpeg" ContentType="image/jpeg"/>
  <Override PartName="/ppt/media/image3.jpeg" ContentType="image/jpeg"/>
  <Override PartName="/ppt/media/image9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.jpeg" ContentType="image/jpeg"/>
  <Override PartName="/ppt/media/image14.wmf" ContentType="image/x-wmf"/>
  <Override PartName="/ppt/media/image16.wmf" ContentType="image/x-wmf"/>
  <Override PartName="/ppt/media/image17.wmf" ContentType="image/x-wmf"/>
  <Override PartName="/ppt/media/image6.jpeg" ContentType="image/jpeg"/>
  <Override PartName="/ppt/media/image18.png" ContentType="image/png"/>
  <Override PartName="/ppt/media/image28.jpeg" ContentType="image/jpeg"/>
  <Override PartName="/ppt/media/image19.jpeg" ContentType="image/jpeg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CB16E00-8140-48F9-8EC4-FF1BEEC14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 through each of the comments to explain how each column of data points fits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we made assumptions to set up the ideal responses for each pe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lk about how penalties will address differences between the ideal response and the user’s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com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50G and 51G are different (I don’t know why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why Evolutional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just ran a sample and it came out to Bi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isa’s story was our motivation to design a model that determines which pet is the right pet for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y percent of US households have p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60 million dogs and 75 million cats are own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pend $34 billion on pets in 2004 (up from $17 billion in 1994): $1.6 b. on the pets themselves, $14 b. for food, and $8 b. for veterinarian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many questions you have to seriously consider before deciding on which pet to get such as your budget, availability, allergies, cleanness and many other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eer to illustrate our mod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Lisa’s story was our motivation to design a model that determines which pet is the right pet for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ixty percent of US households have pe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60 million dogs and 75 million cats are owned in the 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spend $34 billion on pets in 2004 (up from $17 billion in 1994): $1.6 b. on the pets themselves, $14 b. for food, and $8 b. for veterinarian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here are many questions you have to seriously consider before deciding on which pet to get such as your budget, availability, allergies, cleanness and many other facto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olunteer to illustrate our mode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45D5-4DB2-442B-96E1-B4699FFE5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E2F-0C1E-4FF1-8150-F5288E973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B588-E498-46C4-9B51-FBBFAD326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557-3D22-40A7-BF01-E86A234E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39A8-C0A3-4CBB-9C6B-8E8A0323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074A-9B36-482D-88B0-7082ADC0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ED87-D06C-41B2-8EBE-528F88FC1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C519-AFE7-418E-B70E-901FC818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E9AB-E0CA-409B-8890-0702D528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4315-F1D6-4583-89B6-68CB879B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60C2-0079-47A3-ABA6-75CB10696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4C53-DECC-46CB-8F38-0A1FB707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9309B-F5C8-49BE-AB89-DB9A6BA95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hyperlink" Target="http://www.brownfido.com/DogPoopPOO1.jpg" TargetMode="External"/><Relationship Id="rId5" Type="http://schemas.openxmlformats.org/officeDocument/2006/relationships/image" Target="../media/image3.jpeg"/><Relationship Id="rId6" Type="http://schemas.openxmlformats.org/officeDocument/2006/relationships/image" Target="../media/image4.jpeg"/><Relationship Id="rId7" Type="http://schemas.openxmlformats.org/officeDocument/2006/relationships/hyperlink" Target="http://www1.istockphoto.com/file_thumbview_approve/2879013/2/istockphoto_2879013_walking_the_dog.jpg" TargetMode="External"/><Relationship Id="rId8" Type="http://schemas.openxmlformats.org/officeDocument/2006/relationships/image" Target="../media/image5.jpeg"/><Relationship Id="rId9" Type="http://schemas.openxmlformats.org/officeDocument/2006/relationships/hyperlink" Target="http://images.google.com/imgres?imgurl=http://blogs.venturacountystar.com/vcs/dennert/archives/money.jpg&amp;imgrefurl=http://blogs.venturacountystar.com/vcs/dennert/archives/2007/04/&amp;h=600&amp;w=600&amp;sz=46&amp;hl=en&amp;start=2&amp;um=1&amp;tbnid=tr4BfH6mwt0KuM:&amp;tbnh=135&amp;tbnw=135&amp;prev=/images%3Fq%3Dmoney%26svnum%3D10%26um%3D1%26hl%3Den%26rls%3DSKPB,SKPB:2006-44,SKPB:en%26sa%3DN" TargetMode="External"/><Relationship Id="rId10" Type="http://schemas.openxmlformats.org/officeDocument/2006/relationships/image" Target="../media/image6.jpeg"/><Relationship Id="rId11" Type="http://schemas.openxmlformats.org/officeDocument/2006/relationships/image" Target="../media/image7.png"/><Relationship Id="rId12" Type="http://schemas.openxmlformats.org/officeDocument/2006/relationships/image" Target="../media/image8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143000" y="1219320"/>
            <a:ext cx="73152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iModel Presents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66"/>
                </a:solidFill>
                <a:latin typeface="Arial"/>
              </a:rPr>
              <a:t>Pet Choice Calculato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8280" y="4186080"/>
            <a:ext cx="4114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Aval P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eena Jha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Liz Greenba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Teona Pipiya Joh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User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63440" y="1346040"/>
            <a:ext cx="8904240" cy="49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Dat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9920" y="1600200"/>
            <a:ext cx="8745480" cy="377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3600" cy="5576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5943600" y="236232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5181480" y="228600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58840" y="11430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5181480" y="223848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2" name=""/>
          <p:cNvGraphicFramePr/>
          <p:nvPr/>
        </p:nvGraphicFramePr>
        <p:xfrm>
          <a:off x="5181480" y="231444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43000" y="1209600"/>
            <a:ext cx="8656560" cy="541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7" name=""/>
          <p:cNvGraphicFramePr/>
          <p:nvPr/>
        </p:nvGraphicFramePr>
        <p:xfrm>
          <a:off x="5181480" y="231444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Penalty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34800" y="1133640"/>
            <a:ext cx="8656920" cy="5419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2" name=""/>
          <p:cNvGraphicFramePr/>
          <p:nvPr/>
        </p:nvGraphicFramePr>
        <p:xfrm>
          <a:off x="5257800" y="2209680"/>
          <a:ext cx="1143000" cy="352440"/>
        </p:xfrm>
        <a:graphic>
          <a:graphicData uri="http://schemas.openxmlformats.org/drawingml/2006/table">
            <a:tbl>
              <a:tblPr/>
              <a:tblGrid>
                <a:gridCol w="1143000"/>
              </a:tblGrid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enalty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Solver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05000" y="1752480"/>
            <a:ext cx="6315120" cy="34038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olution Methodology—Sampl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207200" y="2522520"/>
            <a:ext cx="1708200" cy="20368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28600" y="1913040"/>
            <a:ext cx="678168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2743200"/>
            <a:ext cx="678168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144792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1143000"/>
            <a:ext cx="2819520" cy="17524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Cliente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3355800">
            <a:off x="2771640" y="25970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962520" y="4343400"/>
            <a:ext cx="1428480" cy="53352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228600" y="1701720"/>
            <a:ext cx="2819520" cy="4498920"/>
            <a:chOff x="228600" y="1701720"/>
            <a:chExt cx="2819520" cy="4498920"/>
          </a:xfrm>
        </p:grpSpPr>
        <p:pic>
          <p:nvPicPr>
            <p:cNvPr id="166" name="" descr=""/>
            <p:cNvPicPr/>
            <p:nvPr/>
          </p:nvPicPr>
          <p:blipFill>
            <a:blip r:embed="rId2"/>
            <a:stretch/>
          </p:blipFill>
          <p:spPr>
            <a:xfrm>
              <a:off x="228600" y="1701720"/>
              <a:ext cx="1905120" cy="1484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3"/>
            <a:stretch/>
          </p:blipFill>
          <p:spPr>
            <a:xfrm>
              <a:off x="685800" y="3809880"/>
              <a:ext cx="2362320" cy="2390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8" name=""/>
          <p:cNvSpPr/>
          <p:nvPr/>
        </p:nvSpPr>
        <p:spPr>
          <a:xfrm>
            <a:off x="4419720" y="30481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rot="19101600">
            <a:off x="6171840" y="266652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6324480" y="2057400"/>
            <a:ext cx="2819520" cy="4343400"/>
            <a:chOff x="6324480" y="2057400"/>
            <a:chExt cx="2819520" cy="4343400"/>
          </a:xfrm>
        </p:grpSpPr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6981840" y="2057400"/>
              <a:ext cx="2162160" cy="2209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6324480" y="4419720"/>
              <a:ext cx="19814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2362320"/>
            <a:ext cx="2209680" cy="167616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Scalabil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6200000">
            <a:off x="2957400" y="27284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495680" y="1600200"/>
            <a:ext cx="3086280" cy="4114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3276720" cy="38098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4419720" y="1523880"/>
            <a:ext cx="3809880" cy="44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ode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1143000"/>
            <a:ext cx="2819520" cy="1752480"/>
          </a:xfrm>
          <a:prstGeom prst="ellipse">
            <a:avLst/>
          </a:prstGeom>
          <a:solidFill>
            <a:srgbClr val="bbe0e3"/>
          </a:soli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Complex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3355800">
            <a:off x="2771640" y="259704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3048120"/>
            <a:ext cx="485640" cy="838080"/>
          </a:xfrm>
          <a:prstGeom prst="downArrow">
            <a:avLst>
              <a:gd name="adj1" fmla="val 50000"/>
              <a:gd name="adj2" fmla="val 43143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9101600">
            <a:off x="6171840" y="2666520"/>
            <a:ext cx="485640" cy="914400"/>
          </a:xfrm>
          <a:prstGeom prst="downArrow">
            <a:avLst>
              <a:gd name="adj1" fmla="val 50000"/>
              <a:gd name="adj2" fmla="val 47072"/>
            </a:avLst>
          </a:prstGeom>
          <a:solidFill>
            <a:srgbClr val="ffcc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66680" y="3657600"/>
            <a:ext cx="1905120" cy="76212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me Avai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733920" y="4114800"/>
            <a:ext cx="190476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 involvement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657600"/>
            <a:ext cx="1981440" cy="9144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66768"/>
              </a:gs>
            </a:gsLst>
            <a:lin ang="5400000"/>
          </a:gra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e of decision revers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21056" t="0" r="0" b="15185"/>
          <a:stretch/>
        </p:blipFill>
        <p:spPr>
          <a:xfrm>
            <a:off x="6858000" y="5078520"/>
            <a:ext cx="2286000" cy="17031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6320" y="5288040"/>
            <a:ext cx="2209680" cy="1387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590920" y="59436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y Questi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666880" y="1746360"/>
            <a:ext cx="3886200" cy="37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50005" b="0"/>
          <a:stretch/>
        </p:blipFill>
        <p:spPr>
          <a:xfrm>
            <a:off x="228600" y="1219320"/>
            <a:ext cx="1905120" cy="25146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rcRect l="0" t="0" r="-1994" b="0"/>
          <a:stretch/>
        </p:blipFill>
        <p:spPr>
          <a:xfrm>
            <a:off x="2514600" y="1143000"/>
            <a:ext cx="3886200" cy="2638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50005" t="0" r="-1994" b="4694"/>
          <a:stretch/>
        </p:blipFill>
        <p:spPr>
          <a:xfrm>
            <a:off x="2590920" y="1219320"/>
            <a:ext cx="198108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" y="403848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Setter licking plate"/>
          <p:cNvPicPr/>
          <p:nvPr/>
        </p:nvPicPr>
        <p:blipFill>
          <a:blip r:embed="rId6"/>
          <a:stretch/>
        </p:blipFill>
        <p:spPr>
          <a:xfrm>
            <a:off x="380880" y="5362560"/>
            <a:ext cx="1905120" cy="111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209680" y="3809880"/>
            <a:ext cx="1371600" cy="1447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666880" y="5267160"/>
            <a:ext cx="1285920" cy="1285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1"/>
          <a:stretch/>
        </p:blipFill>
        <p:spPr>
          <a:xfrm>
            <a:off x="4038480" y="4038480"/>
            <a:ext cx="1600200" cy="1524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2"/>
          <a:stretch/>
        </p:blipFill>
        <p:spPr>
          <a:xfrm>
            <a:off x="4495680" y="4114800"/>
            <a:ext cx="25146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1447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siness Idea – The Right Pet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560" y="6575400"/>
            <a:ext cx="3446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 www.aspca.org and www.marginalrevolution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457200" y="2438280"/>
            <a:ext cx="8229600" cy="2210040"/>
            <a:chOff x="457200" y="2438280"/>
            <a:chExt cx="8229600" cy="2210040"/>
          </a:xfrm>
        </p:grpSpPr>
        <p:sp>
          <p:nvSpPr>
            <p:cNvPr id="74" name=""/>
            <p:cNvSpPr/>
            <p:nvPr/>
          </p:nvSpPr>
          <p:spPr>
            <a:xfrm>
              <a:off x="457200" y="2514600"/>
              <a:ext cx="2133720" cy="2133720"/>
            </a:xfrm>
            <a:prstGeom prst="ellipse">
              <a:avLst/>
            </a:prstGeom>
            <a:solidFill>
              <a:srgbClr val="bbe0e3">
                <a:alpha val="6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% of US households have p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05320" y="2590920"/>
              <a:ext cx="2133360" cy="205740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0 million dogs and 75 million cats are owned in the 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477120" y="2438280"/>
              <a:ext cx="2209680" cy="2210040"/>
            </a:xfrm>
            <a:prstGeom prst="ellipse">
              <a:avLst/>
            </a:prstGeom>
            <a:solidFill>
              <a:srgbClr val="bbe0e3">
                <a:alpha val="4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 2004 consumers spent $34 billion p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1388880" y="5599080"/>
            <a:ext cx="563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PROMISE TO FIND THE RIGHT PET FOR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1447920"/>
            <a:ext cx="77724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Volunte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33520" y="2057400"/>
            <a:ext cx="281916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44792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Business Con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odel Analys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19920" y="3849840"/>
            <a:ext cx="312408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447920"/>
            <a:ext cx="7772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reate a model that will identify the best pet for an individual based on that individual’s responses to a series of lifestyle-related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Managerial Problem Defi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447920"/>
            <a:ext cx="83822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hoice of dummy variable associated with each of ten pet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ize the penalties associated with variation between the user’s responses and the conditions required for the p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strai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ummy variable must be an integer between one and 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Form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8088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2286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Us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28600" y="1149480"/>
            <a:ext cx="8839080" cy="4260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0120" y="5391000"/>
            <a:ext cx="152388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8T17:52:50Z</dcterms:created>
  <dc:creator>Stern School of Business</dc:creator>
  <dc:description/>
  <dc:language>en-US</dc:language>
  <cp:lastModifiedBy>Elizabeth Greenbaum</cp:lastModifiedBy>
  <dcterms:modified xsi:type="dcterms:W3CDTF">2007-12-03T18:18:29Z</dcterms:modified>
  <cp:revision>107</cp:revision>
  <dc:subject/>
  <dc:title>Slide 1</dc:title>
</cp:coreProperties>
</file>